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DF53-8E66-46C5-9AC0-F55366CB5B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1904-2BC0-49A3-BDB5-CAF0BAC46E8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chriftlichen Weisungen ist kein Stoffname und keine Stoffnummer vorhanden. Einsatzkräfte können keinen Rückschl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C2FA-5544-4C1D-A93B-3B6C8FFB62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 den schriftlichen Weisungen ist kein Stoffname und keine Stoffnummer vorhanden. Einsatzkräfte können keinen Rückschl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feld 1"/>
          <p:cNvSpPr/>
          <p:nvPr/>
        </p:nvSpPr>
        <p:spPr>
          <a:xfrm>
            <a:off x="7343640" y="247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B II.3 Tech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836640"/>
            <a:ext cx="9144000" cy="468360"/>
          </a:xfrm>
          <a:prstGeom prst="roundRect">
            <a:avLst>
              <a:gd name="adj" fmla="val 241"/>
            </a:avLst>
          </a:prstGeom>
          <a:gradFill rotWithShape="0">
            <a:gsLst>
              <a:gs pos="0">
                <a:srgbClr val="e0003c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feld 1"/>
          <p:cNvSpPr/>
          <p:nvPr/>
        </p:nvSpPr>
        <p:spPr>
          <a:xfrm>
            <a:off x="324000" y="8827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Informationsmöglichkeiten 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uppieren 5"/>
          <p:cNvGrpSpPr/>
          <p:nvPr/>
        </p:nvGrpSpPr>
        <p:grpSpPr>
          <a:xfrm>
            <a:off x="179280" y="115920"/>
            <a:ext cx="3434040" cy="878400"/>
            <a:chOff x="179280" y="115920"/>
            <a:chExt cx="3434040" cy="878400"/>
          </a:xfrm>
        </p:grpSpPr>
        <p:sp>
          <p:nvSpPr>
            <p:cNvPr id="4" name="Text Box 2"/>
            <p:cNvSpPr/>
            <p:nvPr/>
          </p:nvSpPr>
          <p:spPr>
            <a:xfrm>
              <a:off x="1523880" y="230040"/>
              <a:ext cx="20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dddddd"/>
                  </a:solidFill>
                  <a:latin typeface="Arial Black"/>
                </a:rPr>
                <a:t>NAB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9" descr="Wappen_farb_18mm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48096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10"/>
            <p:cNvSpPr/>
            <p:nvPr/>
          </p:nvSpPr>
          <p:spPr>
            <a:xfrm>
              <a:off x="695160" y="163440"/>
              <a:ext cx="291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iedersächsische Akademie</a:t>
              </a:r>
              <a:br>
                <a:rPr sz="12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ür Brand- und Katastrophenschu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feld 1"/>
          <p:cNvSpPr/>
          <p:nvPr/>
        </p:nvSpPr>
        <p:spPr>
          <a:xfrm>
            <a:off x="17640" y="2708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Beispiele und Hilfsmitt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für die praktische Ausbildu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81440" y="126828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schenk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zinformations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04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06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" name="Text Box 10"/>
          <p:cNvSpPr/>
          <p:nvPr/>
        </p:nvSpPr>
        <p:spPr>
          <a:xfrm>
            <a:off x="6202080" y="3500280"/>
            <a:ext cx="73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aschen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ka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80640" y="2492280"/>
            <a:ext cx="42393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ick-Zettel“ für Einsätze und Üb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 rot="5400000">
            <a:off x="2807280" y="440640"/>
            <a:ext cx="360360" cy="547344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090423-OV-taschenkarte"/>
          <p:cNvPicPr/>
          <p:nvPr/>
        </p:nvPicPr>
        <p:blipFill>
          <a:blip r:embed="rId4"/>
          <a:stretch/>
        </p:blipFill>
        <p:spPr>
          <a:xfrm>
            <a:off x="1886040" y="3402000"/>
            <a:ext cx="2190600" cy="33148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8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7840" y="126828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buch der gefährlichen Stoffe und Gü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17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19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" name="Text Box 10"/>
          <p:cNvSpPr/>
          <p:nvPr/>
        </p:nvSpPr>
        <p:spPr>
          <a:xfrm>
            <a:off x="6202440" y="35002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9920" y="2492280"/>
            <a:ext cx="27532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isches Verzeich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200760" y="2492280"/>
            <a:ext cx="2968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isches Verzeich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2627280" y="2924280"/>
            <a:ext cx="1008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8" descr="090423-OV-hommel-2789"/>
          <p:cNvPicPr/>
          <p:nvPr/>
        </p:nvPicPr>
        <p:blipFill>
          <a:blip r:embed="rId4"/>
          <a:stretch/>
        </p:blipFill>
        <p:spPr>
          <a:xfrm>
            <a:off x="1957320" y="3541680"/>
            <a:ext cx="2346480" cy="33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19" descr="090423-OV-hommel-gefahrendiamant-2789"/>
          <p:cNvPicPr/>
          <p:nvPr/>
        </p:nvPicPr>
        <p:blipFill>
          <a:blip r:embed="rId5"/>
          <a:stretch/>
        </p:blipFill>
        <p:spPr>
          <a:xfrm>
            <a:off x="395280" y="4005360"/>
            <a:ext cx="1317600" cy="1584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0"/>
          <p:cNvSpPr/>
          <p:nvPr/>
        </p:nvSpPr>
        <p:spPr>
          <a:xfrm>
            <a:off x="398520" y="56610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nell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77840" y="126828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buch der gefährlichen Stoffe und Gü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16165" t="17618" r="3309" b="36631"/>
          <a:stretch/>
        </p:blipFill>
        <p:spPr>
          <a:xfrm>
            <a:off x="324000" y="1989000"/>
            <a:ext cx="867564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24000" y="1906560"/>
            <a:ext cx="799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ort- und Gefahrenkl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au = Gesundheits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 = Brand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lb = Reaktionsgefa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- und Einsatzmaß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ässerverunreini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83960" y="126828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ändigkeits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stellerinfor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135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137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Text Box 10"/>
          <p:cNvSpPr/>
          <p:nvPr/>
        </p:nvSpPr>
        <p:spPr>
          <a:xfrm>
            <a:off x="6102360" y="34290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st.-keit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30320" y="2514600"/>
            <a:ext cx="38289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der Produkthers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 rot="5400000">
            <a:off x="2771640" y="1197000"/>
            <a:ext cx="360360" cy="3960720"/>
          </a:xfrm>
          <a:custGeom>
            <a:avLst/>
            <a:gdLst>
              <a:gd name="textAreaLeft" fmla="*/ 0 w 360360"/>
              <a:gd name="textAreaRight" fmla="*/ 129960 w 360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090423-OV-beständigkeit-schläuche"/>
          <p:cNvPicPr/>
          <p:nvPr/>
        </p:nvPicPr>
        <p:blipFill>
          <a:blip r:embed="rId4"/>
          <a:stretch/>
        </p:blipFill>
        <p:spPr>
          <a:xfrm>
            <a:off x="1547640" y="3429000"/>
            <a:ext cx="1525680" cy="2158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090423-OV-beständigkeit-csa"/>
          <p:cNvPicPr/>
          <p:nvPr/>
        </p:nvPicPr>
        <p:blipFill>
          <a:blip r:embed="rId5"/>
          <a:stretch/>
        </p:blipFill>
        <p:spPr>
          <a:xfrm>
            <a:off x="2340000" y="3933720"/>
            <a:ext cx="1522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24000" y="1906560"/>
            <a:ext cx="7993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Eigenscha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Gefah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Persönlicher Schu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Einsatzmass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1. Allgemeine Massn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2. Massnahmen bei Stoffaust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3. Massnahmen bei Feuer (falls Stoff betroff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Erste Hil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Besondere Vorsichtsmassahmen bei der Bergung von Havarieg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 Vorsichtsmassnahmen nach dem Hilfeleistung-Einsa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1. Ablegen der Schutzkleidung (Dekon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2. Reinigung der Ausrüstung (Dekon 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81440" y="1268280"/>
            <a:ext cx="48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I-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mergency Response Intervention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83960" y="126828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I-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ergency Response Intervention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5905440" cy="47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1188720" y="458136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33cc"/>
                </a:solidFill>
                <a:uFillTx/>
                <a:latin typeface="Arial"/>
              </a:rPr>
              <a:t>www.ericard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efahrensymbolel"/>
          <p:cNvPicPr/>
          <p:nvPr/>
        </p:nvPicPr>
        <p:blipFill>
          <a:blip r:embed="rId1"/>
          <a:stretch/>
        </p:blipFill>
        <p:spPr>
          <a:xfrm>
            <a:off x="755640" y="1557360"/>
            <a:ext cx="756288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munitionsbrandklasse"/>
          <p:cNvPicPr/>
          <p:nvPr/>
        </p:nvPicPr>
        <p:blipFill>
          <a:blip r:embed="rId2"/>
          <a:stretch/>
        </p:blipFill>
        <p:spPr>
          <a:xfrm>
            <a:off x="900000" y="4221000"/>
            <a:ext cx="7562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innenschiff-zeichen"/>
          <p:cNvPicPr/>
          <p:nvPr/>
        </p:nvPicPr>
        <p:blipFill>
          <a:blip r:embed="rId1"/>
          <a:stretch/>
        </p:blipFill>
        <p:spPr>
          <a:xfrm>
            <a:off x="900000" y="1628640"/>
            <a:ext cx="7562880" cy="20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warnzeichen"/>
          <p:cNvPicPr/>
          <p:nvPr/>
        </p:nvPicPr>
        <p:blipFill>
          <a:blip r:embed="rId2"/>
          <a:stretch/>
        </p:blipFill>
        <p:spPr>
          <a:xfrm>
            <a:off x="324000" y="4149720"/>
            <a:ext cx="7562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kesselwagen"/>
          <p:cNvPicPr/>
          <p:nvPr/>
        </p:nvPicPr>
        <p:blipFill>
          <a:blip r:embed="rId1"/>
          <a:stretch/>
        </p:blipFill>
        <p:spPr>
          <a:xfrm>
            <a:off x="611280" y="1484280"/>
            <a:ext cx="715320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rohrkennzeichnung-acetylen"/>
          <p:cNvPicPr/>
          <p:nvPr/>
        </p:nvPicPr>
        <p:blipFill>
          <a:blip r:embed="rId2"/>
          <a:stretch/>
        </p:blipFill>
        <p:spPr>
          <a:xfrm>
            <a:off x="755640" y="4508640"/>
            <a:ext cx="71247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908000" y="357336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1506600" cy="149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268960" y="3557520"/>
            <a:ext cx="1608120" cy="156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6996240" y="3573360"/>
            <a:ext cx="1608120" cy="1568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15240" y="1628640"/>
            <a:ext cx="44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e Kennzeichnung 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84320" y="1268280"/>
            <a:ext cx="46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fallmerkbl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iftliche Weisung für den Fahrzeugfü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74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76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" name="Text Box 10"/>
          <p:cNvSpPr/>
          <p:nvPr/>
        </p:nvSpPr>
        <p:spPr>
          <a:xfrm>
            <a:off x="6159960" y="336708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Unfall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55760" y="2514600"/>
            <a:ext cx="51130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z.B. Straßenverkehr gemäß A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2807280" y="1377000"/>
            <a:ext cx="360360" cy="3600720"/>
          </a:xfrm>
          <a:custGeom>
            <a:avLst/>
            <a:gdLst>
              <a:gd name="textAreaLeft" fmla="*/ 0 w 360360"/>
              <a:gd name="textAreaRight" fmla="*/ 129960 w 360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1979640" y="3860640"/>
            <a:ext cx="1944720" cy="23767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zeichnung des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G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genscha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utzausrüs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ßnahmen bei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Fe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-Hil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lefonnumm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090423-OV-unfallmerkblatt-2789"/>
          <p:cNvPicPr/>
          <p:nvPr/>
        </p:nvPicPr>
        <p:blipFill>
          <a:blip r:embed="rId4"/>
          <a:stretch/>
        </p:blipFill>
        <p:spPr>
          <a:xfrm>
            <a:off x="1835280" y="3429000"/>
            <a:ext cx="227016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82520" y="126828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fahrgut-Ersteinsa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r. Ing. Hans-Dieter Nüß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trichter-sw"/>
          <p:cNvPicPr/>
          <p:nvPr/>
        </p:nvPicPr>
        <p:blipFill>
          <a:blip r:embed="rId1"/>
          <a:stretch/>
        </p:blipFill>
        <p:spPr>
          <a:xfrm>
            <a:off x="6168960" y="2209680"/>
            <a:ext cx="3011400" cy="4675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156360" y="2205000"/>
            <a:ext cx="2987640" cy="465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4427640" y="2924280"/>
            <a:ext cx="3061440" cy="2584080"/>
            <a:chOff x="4427640" y="2924280"/>
            <a:chExt cx="3061440" cy="2584080"/>
          </a:xfrm>
        </p:grpSpPr>
        <p:pic>
          <p:nvPicPr>
            <p:cNvPr id="88" name="Picture 6" descr="vergrößerung-lupe"/>
            <p:cNvPicPr/>
            <p:nvPr/>
          </p:nvPicPr>
          <p:blipFill>
            <a:blip r:embed="rId2"/>
            <a:stretch/>
          </p:blipFill>
          <p:spPr>
            <a:xfrm>
              <a:off x="5894640" y="2930400"/>
              <a:ext cx="1584360" cy="158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7"/>
            <p:cNvGrpSpPr/>
            <p:nvPr/>
          </p:nvGrpSpPr>
          <p:grpSpPr>
            <a:xfrm>
              <a:off x="4427640" y="2924280"/>
              <a:ext cx="3061440" cy="2584080"/>
              <a:chOff x="4427640" y="2924280"/>
              <a:chExt cx="3061440" cy="2584080"/>
            </a:xfrm>
          </p:grpSpPr>
          <p:sp>
            <p:nvSpPr>
              <p:cNvPr id="90" name="Oval 8"/>
              <p:cNvSpPr/>
              <p:nvPr/>
            </p:nvSpPr>
            <p:spPr>
              <a:xfrm>
                <a:off x="5880600" y="2924280"/>
                <a:ext cx="1608480" cy="1622520"/>
              </a:xfrm>
              <a:prstGeom prst="ellipse">
                <a:avLst/>
              </a:pr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9" descr="lupe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4203360"/>
                <a:ext cx="1623240" cy="13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2" name="Text Box 10"/>
          <p:cNvSpPr/>
          <p:nvPr/>
        </p:nvSpPr>
        <p:spPr>
          <a:xfrm>
            <a:off x="6154560" y="3390840"/>
            <a:ext cx="79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Gefahrg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Ersteinsat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Nüß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15920" y="2492280"/>
            <a:ext cx="28065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isches Stoff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3056400" y="2492280"/>
            <a:ext cx="302148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isches Stoff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 rot="5400000">
            <a:off x="2807280" y="440640"/>
            <a:ext cx="360360" cy="5473440"/>
          </a:xfrm>
          <a:custGeom>
            <a:avLst/>
            <a:gdLst>
              <a:gd name="textAreaLeft" fmla="*/ 0 w 360360"/>
              <a:gd name="textAreaRight" fmla="*/ 129960 w 360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1979640" y="3860640"/>
            <a:ext cx="1944720" cy="23767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990800" y="4276800"/>
            <a:ext cx="1655640" cy="376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090423-OV-anleitung-nuessler"/>
          <p:cNvPicPr/>
          <p:nvPr/>
        </p:nvPicPr>
        <p:blipFill>
          <a:blip r:embed="rId4"/>
          <a:stretch/>
        </p:blipFill>
        <p:spPr>
          <a:xfrm>
            <a:off x="324000" y="1989000"/>
            <a:ext cx="3620880" cy="48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AutoShape 18"/>
          <p:cNvSpPr/>
          <p:nvPr/>
        </p:nvSpPr>
        <p:spPr>
          <a:xfrm>
            <a:off x="8926560" y="6642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7493"/>
                </a:moveTo>
                <a:lnTo>
                  <a:pt x="7373" y="7493"/>
                </a:lnTo>
                <a:lnTo>
                  <a:pt x="7373" y="12828"/>
                </a:lnTo>
                <a:cubicBezTo>
                  <a:pt x="7373" y="13751"/>
                  <a:pt x="8174" y="14482"/>
                  <a:pt x="9209" y="14482"/>
                </a:cubicBezTo>
                <a:lnTo>
                  <a:pt x="10872" y="14482"/>
                </a:lnTo>
                <a:cubicBezTo>
                  <a:pt x="11908" y="14482"/>
                  <a:pt x="12708" y="13751"/>
                  <a:pt x="12708" y="12828"/>
                </a:cubicBezTo>
                <a:lnTo>
                  <a:pt x="12708" y="7493"/>
                </a:lnTo>
                <a:lnTo>
                  <a:pt x="10872" y="7493"/>
                </a:lnTo>
                <a:lnTo>
                  <a:pt x="14379" y="3985"/>
                </a:lnTo>
                <a:lnTo>
                  <a:pt x="18052" y="7493"/>
                </a:lnTo>
                <a:lnTo>
                  <a:pt x="16216" y="7493"/>
                </a:lnTo>
                <a:lnTo>
                  <a:pt x="16216" y="12828"/>
                </a:lnTo>
                <a:cubicBezTo>
                  <a:pt x="16216" y="15596"/>
                  <a:pt x="13640" y="18155"/>
                  <a:pt x="10872" y="18155"/>
                </a:cubicBezTo>
                <a:lnTo>
                  <a:pt x="9209" y="18155"/>
                </a:lnTo>
                <a:cubicBezTo>
                  <a:pt x="6442" y="18155"/>
                  <a:pt x="3865" y="15596"/>
                  <a:pt x="3865" y="12828"/>
                </a:cubicBezTo>
                <a:close/>
              </a:path>
            </a:pathLst>
          </a:custGeom>
          <a:solidFill>
            <a:srgbClr val="e52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8:17:54Z</dcterms:created>
  <dc:creator/>
  <dc:description/>
  <dc:language>en-US</dc:language>
  <cp:lastModifiedBy>Busch, Horst (NABK)</cp:lastModifiedBy>
  <dcterms:modified xsi:type="dcterms:W3CDTF">2017-10-11T13:48:38Z</dcterms:modified>
  <cp:revision>19</cp:revision>
  <dc:subject/>
  <dc:title>PowerPoint-Präsentation</dc:title>
</cp:coreProperties>
</file>